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8EBD-515B-4C5A-A12A-544F4C5FF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83E0-E7FF-406C-8750-65B37387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F318-4F98-4C10-9DE1-7DAA312BE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1777-23FE-4CC1-96D6-4C5B099E1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58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65B9-E502-4C6E-B24C-46E571B5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D36C-6700-4ADD-BB0E-0570D354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4641-D1CF-4CDF-B9D2-57F5B80B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5FEA-88DA-4695-9929-BAB053FF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58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84E9-03A2-45E3-9CB6-08D8E3E7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E789-CEAF-4B8D-9906-B5E1993A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19D8-91D2-4EB5-AC32-91E56500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D182-0C59-4FD2-912B-2E0030AE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98C96C-219A-43FD-8207-3A6DF9D7C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81080" cy="91764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640"/>
              <a:gd name="textAreaBottom" fmla="*/ 917280 h 917640"/>
            </a:gdLst>
            <a:ahLst/>
            <a:rect l="textAreaLeft" t="textAreaTop" r="textAreaRight" b="textAreaBottom"/>
            <a:pathLst>
              <a:path w="21600" h="109286">
                <a:moveTo>
                  <a:pt x="189" y="0"/>
                </a:moveTo>
                <a:arcTo wR="189" hR="189" stAng="16200000" swAng="-5400000"/>
                <a:lnTo>
                  <a:pt x="0" y="109097"/>
                </a:lnTo>
                <a:arcTo wR="189" hR="189" stAng="10800000" swAng="-5400000"/>
                <a:lnTo>
                  <a:pt x="21411" y="109286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81400"/>
            <a:ext cx="181080" cy="91728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280"/>
              <a:gd name="textAreaBottom" fmla="*/ 916920 h 917280"/>
            </a:gdLst>
            <a:ahLst/>
            <a:rect l="textAreaLeft" t="textAreaTop" r="textAreaRight" b="textAreaBottom"/>
            <a:pathLst>
              <a:path w="21600" h="109243">
                <a:moveTo>
                  <a:pt x="189" y="0"/>
                </a:moveTo>
                <a:arcTo wR="189" hR="189" stAng="16200000" swAng="-5400000"/>
                <a:lnTo>
                  <a:pt x="0" y="109054"/>
                </a:lnTo>
                <a:arcTo wR="189" hR="189" stAng="10800000" swAng="-5400000"/>
                <a:lnTo>
                  <a:pt x="21411" y="10924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168560"/>
            <a:ext cx="181080" cy="91728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280"/>
              <a:gd name="textAreaBottom" fmla="*/ 916920 h 917280"/>
            </a:gdLst>
            <a:ahLst/>
            <a:rect l="textAreaLeft" t="textAreaTop" r="textAreaRight" b="textAreaBottom"/>
            <a:pathLst>
              <a:path w="21600" h="109243">
                <a:moveTo>
                  <a:pt x="189" y="0"/>
                </a:moveTo>
                <a:arcTo wR="189" hR="189" stAng="16200000" swAng="-5400000"/>
                <a:lnTo>
                  <a:pt x="0" y="109054"/>
                </a:lnTo>
                <a:arcTo wR="189" hR="189" stAng="10800000" swAng="-5400000"/>
                <a:lnTo>
                  <a:pt x="21411" y="10924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qlite.org/" TargetMode="External"/><Relationship Id="rId2" Type="http://schemas.openxmlformats.org/officeDocument/2006/relationships/hyperlink" Target="http://www.qgis.org/" TargetMode="External"/><Relationship Id="rId3" Type="http://schemas.openxmlformats.org/officeDocument/2006/relationships/hyperlink" Target="http://www.gaia-gis.it/spatialite/" TargetMode="External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1240" y="600120"/>
            <a:ext cx="86076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400" spc="-1" strike="noStrike">
                <a:solidFill>
                  <a:srgbClr val="333333"/>
                </a:solidFill>
                <a:latin typeface="Arial"/>
              </a:rPr>
              <a:t>DBC legacy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41240" y="2146320"/>
            <a:ext cx="8607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ovv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Come continuare ad utilizzare ancora le vecchie applicazioni DBC a supporto dei processi  gestionali del TP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.. magari 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Iniziando a fare qualche piccolo passo in av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400" spc="-1" strike="noStrike">
                <a:solidFill>
                  <a:srgbClr val="333333"/>
                </a:solidFill>
                <a:latin typeface="Arial"/>
              </a:rPr>
              <a:t>DBC apps: obsolete, ma ...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X le Azie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bcGaia / Dbc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aiaT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X gli 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bc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bcE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bcP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tc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mplici applicazioni desktop Win32, basate su DB MS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curamente obsolete sotto svariati profili tecnolog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uttora largamente utilizzate in molti conte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videntemente una semplicità elementare ed una buona affidabilità ancora rappresentano u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onu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er molti ut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1240" y="600120"/>
            <a:ext cx="86076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400" spc="-1" strike="noStrike">
                <a:solidFill>
                  <a:srgbClr val="333333"/>
                </a:solidFill>
                <a:latin typeface="Arial"/>
              </a:rPr>
              <a:t>Costruire un pont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mbienti client server /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58160" indent="-550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ples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658160" indent="-550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sto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658160" indent="-550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levata rigid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mbienti desk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58160" indent="-550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mpl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658160" indent="-550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conom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658160" indent="-550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ssima flessibi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 sempre le DBC apps presidiano onorevolmente il versante desk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 quindi possono ancora continuare a svolgere un compito utile e produt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che se si impone un aggiornamento ai nuovi contesti tecnolog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400" spc="-1" strike="noStrike">
                <a:solidFill>
                  <a:srgbClr val="333333"/>
                </a:solidFill>
                <a:latin typeface="Arial"/>
              </a:rPr>
              <a:t>L'anello mancant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Le DBC apps continuano a svolgere un ruolo insostituibile per la generazione dei contenuti primari da parte delle Aziende TPL [comunicazioni del piano di esercizio] - GaiaTp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Viceversa, con l'introduzione nello scenario dei vari server [Telemaco, Ermes], rischiavano di uscire di scena le DBC apps lato pianificazione ed analisi – DbcBase, DbcExplorer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Telemaco risolveva il problema generando direttamente i 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resource packs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e rendendoli disponibili per 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downlo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Ma nel nuovo scenario Ermes rischia di venir meno l'alimentazione dei dati in un formato immediatamente utilizzabile per gli utenti deskt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Quindi un nuovo 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toolkit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in grado di alimentare le vecchie DBC apps a partire dai formati DbcXML giunge sicuramente ut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400" spc="-1" strike="noStrike">
                <a:solidFill>
                  <a:srgbClr val="333333"/>
                </a:solidFill>
                <a:latin typeface="Arial"/>
              </a:rPr>
              <a:t>dbcxml2split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Un semplice 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tool command 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In grado di acquisire una comunicazione Dbc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limentando un DB SQLite + SpatiaLi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Opzionalmente è anche possibile generare i files nei vecchi formati DbcT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 quindi in questo modo è possibile continuare ad alimentare le varie DBC ap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41240" y="3117960"/>
            <a:ext cx="4200480" cy="27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1240" y="600120"/>
            <a:ext cx="86076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400" spc="-1" strike="noStrike">
                <a:solidFill>
                  <a:srgbClr val="333333"/>
                </a:solidFill>
                <a:latin typeface="Arial"/>
              </a:rPr>
              <a:t>Il valore aggiunto: SQL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41240" y="2908440"/>
            <a:ext cx="4200480" cy="31478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 si aprono anche nuovi scenari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fatti è possibile interrogare direttamente il DB SQLite tramite 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perazione non alla portata di tutti, ma sicuramente di mol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 l'altro, SQLite offre un ottimo supporto sia per Python che per 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venta quindi abbastanza semplice sviluppare piccole apps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d ho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per scopi specifici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1240" y="600120"/>
            <a:ext cx="86076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400" spc="-1" strike="noStrike">
                <a:solidFill>
                  <a:srgbClr val="333333"/>
                </a:solidFill>
                <a:latin typeface="Arial"/>
              </a:rPr>
              <a:t>Il valore aggiunto: GI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41240" y="2909880"/>
            <a:ext cx="4200480" cy="31449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a un DB SpatiaLite è di per se stesso un DB Spatial a tutti gli effe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Quindi è possibile consultare la cartografia delle reti TPL in modo diretto ed immedi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1240" y="600120"/>
            <a:ext cx="86076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400" spc="-1" strike="noStrike">
                <a:solidFill>
                  <a:srgbClr val="333333"/>
                </a:solidFill>
                <a:latin typeface="Arial"/>
              </a:rPr>
              <a:t>Il valore aggiunto: compatibilità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41240" y="2701800"/>
            <a:ext cx="4200480" cy="35625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51600" y="2101320"/>
            <a:ext cx="420048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' facile utilizzare un DB SpatiaLite anche con prodotti SW di ampia diffus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.es. usando Quantum GIS, un GIS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open sourc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molto sofisticato e particolarmente diffus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400" spc="-1" strike="noStrike">
                <a:solidFill>
                  <a:srgbClr val="333333"/>
                </a:solidFill>
                <a:latin typeface="Arial"/>
              </a:rPr>
              <a:t>Risorse utili per esploratori volenterosi ed avventurosi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utti i prodotti SW sotto elencati sono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open sourc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e quindi disponibili a titolo assolutamente gratu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ui rispettivi siti potete trovare le versioni eseguibili per Windows, Linux e Mac Os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ltre alla documentazione, manuali. tutorials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sqlite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QLite: documentazione SQL, API C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qgis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Quantum GIS [consigliata la 1.4 di imminente rilascio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gaia-gis.it/spatialit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ools GUI, manuali etc … [consigliata la 2.4.0-RC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0:32:33Z</dcterms:created>
  <dc:creator/>
  <dc:description/>
  <dc:language>en-US</dc:language>
  <cp:lastModifiedBy>Alessandro Furieri</cp:lastModifiedBy>
  <dcterms:modified xsi:type="dcterms:W3CDTF">2009-12-29T13:34:04Z</dcterms:modified>
  <cp:revision>3</cp:revision>
  <dc:subject/>
  <dc:title/>
</cp:coreProperties>
</file>